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BD72-982C-433F-8A2E-B15D7EAAF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DD8E-B5FD-4962-9DFA-2455C761C918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D456-0325-4254-8D02-9D96D5C4A27E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3C64-EE0F-43F1-8464-2B7D0BF3745B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07CB-4F1D-4A9B-959B-3A83A60A5B1E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B6D2-14A8-4596-8096-C311D7C8A5CE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3C83-2BE6-4E9D-9087-E8DB221511CB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DFD2-E79F-4F22-990D-4F63DA3A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13B5-5EB8-47EA-95F0-4778A7BF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9ECC-F9D8-4FA9-A311-AA389EC04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F3C1-6454-4BF1-BED9-2A360F056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EEB3-6AAC-4A90-AE4C-3C0D15266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F9FC-B177-4BD4-8B1B-C3C51763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2EB2-18E2-4D73-9847-9A82CB30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75F6-FBC0-4093-B1EA-CF6AB27A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5EE2-A131-4636-BCA5-1CA80665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33A4-1D80-498A-89E5-E59C720E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CB25-0DAE-430D-BBC7-D095F7F7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AC45-EFEE-4C0C-8C14-84D9938D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623D-A264-4FAF-A6F0-A8A9F4A4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D64B-35AD-4FAA-88AA-A179AD8C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FF53-51AF-4623-8109-4FCB836F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1BD5-2FC0-431D-9D5D-60A3D065F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F688-BB7D-4AFE-BB9E-58049170C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80EE-DCFD-43C0-A6C5-2F619FB4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061E-4FD7-4870-9995-D3AC65FA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434F-8EFC-400C-908C-2C04F1E2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F89D-54DC-4C1E-BA02-AAA52C44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2978-A449-49E3-B76D-FAF8141D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0D75-BCFD-4562-877F-F39B3C3D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86B5-3BB0-45D0-BCC5-22D7F70A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6B65-DC20-48ED-9157-4AE18A591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731B-7679-4347-9A37-DE8284B5E9FC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Motivating Young Readers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in Your Classroom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0384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3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r. Julie Coiro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John Guthrie, Univ. of Maryland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19" name="Picture 3" descr="Screen shot 2011-09-26 at 8.47.17 PM.png"/>
          <p:cNvPicPr/>
          <p:nvPr/>
        </p:nvPicPr>
        <p:blipFill>
          <a:blip r:embed="rId1"/>
          <a:stretch/>
        </p:blipFill>
        <p:spPr>
          <a:xfrm>
            <a:off x="152280" y="1905120"/>
            <a:ext cx="5230800" cy="3022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Screen shot 2013-09-22 at 12.03.27 AM.png"/>
          <p:cNvPicPr/>
          <p:nvPr/>
        </p:nvPicPr>
        <p:blipFill>
          <a:blip r:embed="rId2"/>
          <a:stretch/>
        </p:blipFill>
        <p:spPr>
          <a:xfrm>
            <a:off x="4724280" y="3276720"/>
            <a:ext cx="41547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228600" y="1523880"/>
            <a:ext cx="8763120" cy="5334120"/>
          </a:xfrm>
          <a:prstGeom prst="rect">
            <a:avLst/>
          </a:prstGeom>
          <a:solidFill>
            <a:srgbClr val="ffffff"/>
          </a:solidFill>
          <a:ln w="381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My Bookmark for Chapter 6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2824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Students need A, B, C</a:t>
            </a:r>
            <a:r>
              <a:rPr b="1" lang="ja-JP" sz="2800" spc="-1" strike="noStrike">
                <a:solidFill>
                  <a:srgbClr val="33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s …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ievemen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long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ntro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eachers provide IC7Plus…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f19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919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nteresting topic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19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919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oice, </a:t>
            </a:r>
            <a:r>
              <a:rPr b="1" lang="en-US" sz="2800" spc="-1" strike="noStrike">
                <a:solidFill>
                  <a:srgbClr val="ff1919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ntrol, </a:t>
            </a:r>
            <a:r>
              <a:rPr b="1" lang="en-US" sz="2800" spc="-1" strike="noStrike">
                <a:solidFill>
                  <a:srgbClr val="ff1919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allenging </a:t>
            </a:r>
            <a:r>
              <a:rPr b="1" lang="en-US" sz="2800" spc="-1" strike="noStrike">
                <a:solidFill>
                  <a:srgbClr val="ff1919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ntent, </a:t>
            </a:r>
            <a:r>
              <a:rPr b="1" lang="en-US" sz="2800" spc="-1" strike="noStrike">
                <a:solidFill>
                  <a:srgbClr val="ff1919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llaboration &amp; </a:t>
            </a:r>
            <a:r>
              <a:rPr b="1" lang="en-US" sz="2800" spc="-1" strike="noStrike">
                <a:solidFill>
                  <a:srgbClr val="ff1919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mmunity, </a:t>
            </a:r>
            <a:r>
              <a:rPr b="1" lang="en-US" sz="2800" spc="-1" strike="noStrike">
                <a:solidFill>
                  <a:srgbClr val="ff1919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nstructive Feedback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I see, I hear, I noticed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echnology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(diverse multimedia texts)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24" name="Picture 5" descr="Screen shot 2011-09-26 at 1.43.32 PM.png"/>
          <p:cNvPicPr/>
          <p:nvPr/>
        </p:nvPicPr>
        <p:blipFill>
          <a:blip r:embed="rId3"/>
          <a:stretch/>
        </p:blipFill>
        <p:spPr>
          <a:xfrm>
            <a:off x="6400800" y="1828800"/>
            <a:ext cx="1733400" cy="1766880"/>
          </a:xfrm>
          <a:prstGeom prst="rect">
            <a:avLst/>
          </a:prstGeom>
          <a:ln w="0">
            <a:noFill/>
          </a:ln>
        </p:spPr>
      </p:pic>
      <p:pic>
        <p:nvPicPr>
          <p:cNvPr id="125" name="Rectangle 6" descr=""/>
          <p:cNvPicPr/>
          <p:nvPr/>
        </p:nvPicPr>
        <p:blipFill>
          <a:blip r:embed="rId4"/>
          <a:stretch/>
        </p:blipFill>
        <p:spPr>
          <a:xfrm>
            <a:off x="5559480" y="4175280"/>
            <a:ext cx="2560680" cy="834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Screen shot 2011-09-26 at 1.48.47 PM.png"/>
          <p:cNvPicPr/>
          <p:nvPr/>
        </p:nvPicPr>
        <p:blipFill>
          <a:blip r:embed="rId5"/>
          <a:stretch/>
        </p:blipFill>
        <p:spPr>
          <a:xfrm>
            <a:off x="7620120" y="5048280"/>
            <a:ext cx="13478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Online Reading Locations to Motivate Young Readers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066320" y="4191120"/>
            <a:ext cx="6782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re’s TONS of motivating digital resources to engage your students!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Your Task: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Digital Resource Review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09480" y="2717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eneral Descrip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eature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ffordance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onstraint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Overall rating (and link to motivational practices)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534240" y="2209680"/>
            <a:ext cx="2043000" cy="459720"/>
          </a:xfrm>
          <a:prstGeom prst="rect">
            <a:avLst/>
          </a:prstGeom>
          <a:solidFill>
            <a:srgbClr val="ffe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mazing Tex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3099960" y="2209680"/>
            <a:ext cx="1482120" cy="459720"/>
          </a:xfrm>
          <a:prstGeom prst="rect">
            <a:avLst/>
          </a:prstGeom>
          <a:solidFill>
            <a:srgbClr val="ffe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ol Too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5049360" y="2209680"/>
            <a:ext cx="3582360" cy="459720"/>
          </a:xfrm>
          <a:prstGeom prst="rect">
            <a:avLst/>
          </a:prstGeom>
          <a:solidFill>
            <a:srgbClr val="ffe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llaborative Community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ding for Ideas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35" name="Picture 3" descr="Screen Shot 2016-09-21 at 9.11.55 PM.png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366264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1992240" y="5410080"/>
            <a:ext cx="2282400" cy="459720"/>
          </a:xfrm>
          <a:prstGeom prst="rect">
            <a:avLst/>
          </a:prstGeom>
          <a:solidFill>
            <a:srgbClr val="ffe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ystery Photo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4741200" y="5410080"/>
            <a:ext cx="3384000" cy="459720"/>
          </a:xfrm>
          <a:prstGeom prst="rect">
            <a:avLst/>
          </a:prstGeom>
          <a:solidFill>
            <a:srgbClr val="ffe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ternet Inquiry Baske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1935360" y="6172200"/>
            <a:ext cx="5970240" cy="459720"/>
          </a:xfrm>
          <a:prstGeom prst="rect">
            <a:avLst/>
          </a:prstGeom>
          <a:solidFill>
            <a:srgbClr val="ffe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ondering Notebooks and Inquiry Buddi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ding for Ideas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40" name="Picture 3" descr="Screen Shot 2016-09-21 at 9.14.15 PM.png"/>
          <p:cNvPicPr/>
          <p:nvPr/>
        </p:nvPicPr>
        <p:blipFill>
          <a:blip r:embed="rId1"/>
          <a:stretch/>
        </p:blipFill>
        <p:spPr>
          <a:xfrm>
            <a:off x="380880" y="2451240"/>
            <a:ext cx="8382240" cy="4178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2"/>
          <a:stretch/>
        </p:blipFill>
        <p:spPr>
          <a:xfrm>
            <a:off x="6324480" y="1339920"/>
            <a:ext cx="2241720" cy="22413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5"/>
          <p:cNvSpPr/>
          <p:nvPr/>
        </p:nvSpPr>
        <p:spPr>
          <a:xfrm>
            <a:off x="6935040" y="2065320"/>
            <a:ext cx="98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00"/>
                </a:solidFill>
                <a:latin typeface="Arial"/>
              </a:rPr>
              <a:t>Personal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00"/>
                </a:solidFill>
                <a:latin typeface="Arial"/>
              </a:rPr>
              <a:t>Digital 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00"/>
                </a:solidFill>
                <a:latin typeface="Arial"/>
              </a:rPr>
              <a:t>Inquiry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reating a Screencas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44" name="Picture 3" descr="Screen Shot 2016-09-21 at 9.23.53 PM.png"/>
          <p:cNvPicPr/>
          <p:nvPr/>
        </p:nvPicPr>
        <p:blipFill>
          <a:blip r:embed="rId1"/>
          <a:stretch/>
        </p:blipFill>
        <p:spPr>
          <a:xfrm>
            <a:off x="685800" y="1828800"/>
            <a:ext cx="795672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nd readings, links, and assignments on the wiki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oday</a:t>
            </a:r>
            <a:r>
              <a:rPr b="1" lang="ja-JP" sz="4400" spc="-1" strike="noStrike">
                <a:solidFill>
                  <a:srgbClr val="3200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s Learning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What is literacy motivation and why does it matter?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Define intrinsic &amp; extrinsic motivation and how each plays out to influence readers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How do we create supportive learning contexts? 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Synthesize key ideas about motivation, classroom culture and literacy instruction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hat is literacy motivation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The reasons, purposes, and goals for reading and writing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 -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They are multidimensional (many levels and layers) and diverse (many reasons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o you like to read?  Write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re you good at reading? Writing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do you read? What do you write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Why do you read? Why do you write?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motivates you? </a:t>
            </a:r>
            <a:br>
              <a:rPr sz="4400"/>
            </a:b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(Sweet &amp; Guthrie) 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ntrinsic Motiv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xtrinsic Motiv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9" name="Oval 3"/>
          <p:cNvSpPr/>
          <p:nvPr/>
        </p:nvSpPr>
        <p:spPr>
          <a:xfrm>
            <a:off x="1600200" y="3505320"/>
            <a:ext cx="2286000" cy="1981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0" name="Oval 4"/>
          <p:cNvSpPr/>
          <p:nvPr/>
        </p:nvSpPr>
        <p:spPr>
          <a:xfrm>
            <a:off x="4876920" y="3505320"/>
            <a:ext cx="2286000" cy="1981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ypes of motiva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Intrinsic motivations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Goals that are internal to the learner and guided by personal interests and private experiences (curiosity, involvement, social interaction, and challenge)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Extrinsic motivations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Goals that originate outside the learner (often guided by parents and/or teachers) - guided by points, stars, external rewards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5310000" y="1828800"/>
            <a:ext cx="3705840" cy="825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tegrated instruction and 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elf-directed learn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5503320" y="4038480"/>
            <a:ext cx="3058200" cy="825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kill-building in a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equential curriculum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5481720" y="1219320"/>
            <a:ext cx="45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weet &amp; Guthrie, 1996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hy is motivation important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ntrinsically motivated readers are..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ore proficient reader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ore knowledgeable &gt; higher achiever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urposeful and goal-directed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ore likely to see learning as fu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illing to work hard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otivating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task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text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teacher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, and classroom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context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reate motivated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learner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648720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rnett, Ch. 6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reating Supportive Literacy Learning Context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10" name="Picture 3" descr="Screen Shot 2016-09-21 at 5.15.24 PM.png"/>
          <p:cNvPicPr/>
          <p:nvPr/>
        </p:nvPicPr>
        <p:blipFill>
          <a:blip r:embed="rId1"/>
          <a:stretch/>
        </p:blipFill>
        <p:spPr>
          <a:xfrm>
            <a:off x="2133720" y="1981080"/>
            <a:ext cx="50292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5"/>
          <p:cNvSpPr/>
          <p:nvPr/>
        </p:nvSpPr>
        <p:spPr>
          <a:xfrm>
            <a:off x="609480" y="4114800"/>
            <a:ext cx="7620120" cy="2064600"/>
          </a:xfrm>
          <a:prstGeom prst="rect">
            <a:avLst/>
          </a:prstGeom>
          <a:solidFill>
            <a:srgbClr val="ffdc4c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EXTRINSIC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09480" y="2093760"/>
            <a:ext cx="7620120" cy="2064600"/>
          </a:xfrm>
          <a:prstGeom prst="rect">
            <a:avLst/>
          </a:prstGeom>
          <a:solidFill>
            <a:srgbClr val="009999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INTRINSIC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Eight distinct motivations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for literacy </a:t>
            </a: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(Sweet &amp; Guthrie, 1996)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volvemen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uriosity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alleng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ocial Interac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mpliance motiva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cogni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mpeti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ork Avoidanc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John Guthrie (Concept Oriented Reading Instruction) CORI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MOTIVAT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ucces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ematic Read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hoic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levanc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llabora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spect, safety, clarity, helpfu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7" name="Content Placeholder 2"/>
          <p:cNvSpPr/>
          <p:nvPr/>
        </p:nvSpPr>
        <p:spPr>
          <a:xfrm>
            <a:off x="434340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NOT MOTIVAT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ailure &amp; no feedback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ragmented topic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No control over choic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ard to relate to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nly independent read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ear, unimportance, unwillingness to scaffol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7T00:55:11Z</dcterms:created>
  <dc:creator>Julie Coiro</dc:creator>
  <dc:description/>
  <dc:language>en-US</dc:language>
  <cp:lastModifiedBy>Julie Coiro</cp:lastModifiedBy>
  <dcterms:modified xsi:type="dcterms:W3CDTF">2016-09-22T01:29:43Z</dcterms:modified>
  <cp:revision>214</cp:revision>
  <dc:subject/>
  <dc:title>Metacognitive Strategy Instruction to Enhance Reading Comprehension</dc:title>
</cp:coreProperties>
</file>